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454-EFB0-416A-B7EC-313F4E82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22D-D572-4675-9BF8-6DC77FDC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C68-BE86-4DC6-A4F9-B106CE2D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EFD-2340-47FB-9791-5E07FBAC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952-0A9B-4372-AEDC-6516E8BC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4A4-7335-4D82-8F4A-AA8D4445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A76-C03C-42F9-AE96-C4E45D58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5F4-BE41-415E-945E-AECEB4F5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A79-E28C-4DA8-A67B-40BBBDC5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23F-3340-4003-816B-4F61703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DAE-0F29-42E4-96E9-F5F113F9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34C-C135-4E97-A871-9B1629F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DF61-AC63-489E-8E86-028D13628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ipdn102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68280" y="1477800"/>
                <a:ext cx="2916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100320" y="2260440"/>
                <a:ext cx="5796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43120" y="2057400"/>
                <a:ext cx="2315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01800" y="3000240"/>
                <a:ext cx="895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248000" y="1469880"/>
                <a:ext cx="3679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594560" y="2309760"/>
                <a:ext cx="5796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700520" y="2065320"/>
                <a:ext cx="29480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775480" y="2992320"/>
                <a:ext cx="949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245360" y="1397160"/>
                <a:ext cx="4208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96720" y="1512720"/>
                <a:ext cx="4891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624040" y="2614680"/>
                <a:ext cx="633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60320" y="2360520"/>
                <a:ext cx="18432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63640" y="3514680"/>
                <a:ext cx="10000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27560" y="1413000"/>
                <a:ext cx="4204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01600" y="220500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13000" y="219852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529240" y="2643120"/>
                <a:ext cx="581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51400" y="2382840"/>
                <a:ext cx="2054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38520" y="3529080"/>
                <a:ext cx="1474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371680" y="219708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3080" y="219060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65400" y="2498760"/>
                <a:ext cx="6318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4440" y="1527120"/>
                <a:ext cx="49370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378160" y="2730600"/>
                <a:ext cx="896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22360" y="2476440"/>
                <a:ext cx="20016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4920" y="3514680"/>
                <a:ext cx="15793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101600" y="220500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8920" y="219852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718080" y="2484360"/>
                <a:ext cx="18954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035160" y="3529080"/>
                <a:ext cx="1054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371680" y="219708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1520" y="219060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152880" y="2629080"/>
                <a:ext cx="6318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38040" y="1461960"/>
                <a:ext cx="5475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417760" y="2462040"/>
                <a:ext cx="7905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74560" y="2476440"/>
                <a:ext cx="18957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84440" y="3540240"/>
                <a:ext cx="11588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101600" y="220500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7200" y="2198520"/>
            <a:ext cx="7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743280" y="2484360"/>
                <a:ext cx="18432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633760" y="3656160"/>
                <a:ext cx="1106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125880" y="219708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6960" y="219060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52880" y="2629080"/>
                <a:ext cx="6318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352600" y="1457280"/>
                <a:ext cx="4208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116240" y="1450800"/>
                <a:ext cx="4208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568840" y="2620800"/>
                <a:ext cx="631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180120" y="2540160"/>
                <a:ext cx="841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773520" y="3760920"/>
                <a:ext cx="11602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67, 3 – 3 #1-16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9-13T14:48:04Z</dcterms:modified>
  <cp:revision>55</cp:revision>
  <dc:subject/>
  <dc:title>Slide 1</dc:title>
</cp:coreProperties>
</file>